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CBB-9FDA-434E-9837-C83BDF3CD00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92B0-35A3-4311-8EA6-CB91C8AC53E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8F31-D54D-4CDB-849C-4C6BAF29A17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CA2D-91D9-47ED-9C43-E1BAE177B9F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DF16-9D64-409D-AF6E-3FAE36A6076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lesson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F505-B99C-4D1F-A050-42CF7ED9D5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DDCF-B260-41A1-B13C-8D2F4956A7A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’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892-4D81-4668-B11E-14D3A503D92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7C76-7C7B-47A4-A3E9-7E7971C2A1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A62-8037-4151-8193-C84C31C6D58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7C4A-A524-43C4-BE0C-8685EA23AB1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8F73-F89B-4CFF-B826-A48000D47AA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041D-6F58-4455-9FED-F3D987F97A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486-A6A8-401A-9782-5C7A69C34D1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C26-060D-414C-B87C-FC004E43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1DA-8CE6-4B20-A2EB-2A2114B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C7F-6E7A-4AE8-AB83-8668B695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44D-70B8-4448-AC1B-D013DB9E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89F-8357-4585-8AB4-2DB8555A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AE4-4654-4037-8166-B0396AF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0A9-855E-449D-9BC8-B4F688DB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EE8-5371-42CC-B53C-7638FA33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92A-4F28-4C2A-8464-3794F13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EF1-E0C8-44B9-ABF6-6F19472A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8FE-2C8A-454F-9BA6-8148356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DCB-EB34-4F7F-81A8-B8CBCCB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E24D-037F-4A69-932F-7A893742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an Helmont’s experiment (164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457200" y="2001960"/>
            <a:ext cx="82296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complex organic molecules using energy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04-02T13:32:32Z</dcterms:modified>
  <cp:revision>94</cp:revision>
  <dc:subject/>
  <dc:title>Slide 1</dc:title>
</cp:coreProperties>
</file>